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7.wmf" ContentType="image/x-wmf"/>
  <Override PartName="/ppt/media/image6.jpeg" ContentType="image/jpeg"/>
  <Override PartName="/ppt/media/image19.jpeg" ContentType="image/jpeg"/>
  <Override PartName="/ppt/media/image1.jpeg" ContentType="image/jpeg"/>
  <Override PartName="/ppt/media/image4.wmf" ContentType="image/x-wmf"/>
  <Override PartName="/ppt/media/image18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C4ED-91C8-4613-A86B-0919290AF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5DDE-C445-4404-91C4-A852DCF06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1335-02F1-4669-8BEB-333F96AE4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9F04-B028-4636-9542-75C482262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18C5-B3D7-4981-8D8E-DCFFE7E73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1EEF-B0A1-417D-A1C5-D8FC0ACFB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6F06-BB98-47D4-B019-E6E12DA2F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0E1B-EAF9-4912-80CD-7546B0B1C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2D6B-BB86-4BC2-A30E-0E1E6068E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2FF6-741B-4AD8-A305-4F0F81F6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ED0F-C4B8-47C3-94F1-27AFDC01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EC05-E83F-4118-9339-27E70727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41B5F-65E9-4A6E-991E-449FFB4A640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Flexion-exten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791320" y="1600200"/>
            <a:ext cx="2971800" cy="1981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791320" y="4572000"/>
            <a:ext cx="2985840" cy="1981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80880" y="4572000"/>
            <a:ext cx="2971800" cy="2008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9661680" y="492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52680" y="5257800"/>
            <a:ext cx="23623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lessum = défaut d’ex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09480" y="1295280"/>
            <a:ext cx="3759480" cy="2819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6553080" y="3809880"/>
            <a:ext cx="1524240" cy="459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-14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mager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D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590920" y="1828800"/>
            <a:ext cx="2824200" cy="2292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791320" y="4037040"/>
            <a:ext cx="2846160" cy="2289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838080" y="4648320"/>
            <a:ext cx="3810240" cy="1937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jective la lux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éfinit son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herche des lésions associ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ésions osseuses associé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952880" y="1371600"/>
            <a:ext cx="2590920" cy="2362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93" name=""/>
          <p:cNvSpPr/>
          <p:nvPr/>
        </p:nvSpPr>
        <p:spPr>
          <a:xfrm flipV="1">
            <a:off x="6775560" y="1931760"/>
            <a:ext cx="530280" cy="40788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219320" y="1371600"/>
            <a:ext cx="2666880" cy="23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219320" y="4038480"/>
            <a:ext cx="2666880" cy="2359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4952880" y="4114800"/>
            <a:ext cx="2590920" cy="2289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97" name=""/>
          <p:cNvSpPr/>
          <p:nvPr/>
        </p:nvSpPr>
        <p:spPr>
          <a:xfrm flipV="1">
            <a:off x="1752480" y="1676160"/>
            <a:ext cx="530280" cy="40788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3581280" y="4876560"/>
            <a:ext cx="530280" cy="40788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238880" y="4343040"/>
            <a:ext cx="530280" cy="40788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3200400"/>
            <a:ext cx="1371600" cy="398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0000"/>
                </a:solidFill>
                <a:latin typeface="Times New Roman"/>
                <a:ea typeface="ＭＳ Ｐゴシック"/>
              </a:rPr>
              <a:t>Epicondy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86400" y="3124080"/>
            <a:ext cx="1523880" cy="398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40000"/>
                </a:solidFill>
                <a:latin typeface="Times New Roman"/>
                <a:ea typeface="ＭＳ Ｐゴシック"/>
              </a:rPr>
              <a:t>Coronoï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76520" y="5791320"/>
            <a:ext cx="1523880" cy="398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40000"/>
                </a:solidFill>
                <a:latin typeface="Times New Roman"/>
                <a:ea typeface="ＭＳ Ｐゴシック"/>
              </a:rPr>
              <a:t>Epitrochlé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486400" y="5791320"/>
            <a:ext cx="1523880" cy="398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40000"/>
                </a:solidFill>
                <a:latin typeface="Times New Roman"/>
                <a:ea typeface="ＭＳ Ｐゴシック"/>
              </a:rPr>
              <a:t>Tête radi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3581280"/>
            <a:ext cx="1447560" cy="7642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0000"/>
                </a:solidFill>
                <a:latin typeface="Times New Roman"/>
                <a:ea typeface="ＭＳ Ｐゴシック"/>
              </a:rPr>
              <a:t>25 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uxation trans-olécranien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09800" y="1684440"/>
            <a:ext cx="5342040" cy="4168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utres formes clini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xation diverg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xation postéro - inter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0381"/>
          <a:stretch/>
        </p:blipFill>
        <p:spPr>
          <a:xfrm>
            <a:off x="6248520" y="1905120"/>
            <a:ext cx="1920600" cy="1981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581280" y="3886200"/>
            <a:ext cx="1868760" cy="2666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Pronation-sup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41400" y="2438280"/>
            <a:ext cx="3114720" cy="2179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137200" y="2438280"/>
            <a:ext cx="3114720" cy="2179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1828800" y="2133720"/>
            <a:ext cx="1600200" cy="459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15000" y="2133720"/>
            <a:ext cx="1752480" cy="459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7400" y="4952880"/>
            <a:ext cx="1066680" cy="459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67360" y="4952880"/>
            <a:ext cx="1066680" cy="459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5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Triangle de Nelat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5943240"/>
            <a:ext cx="7696080" cy="6858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Epicondyle, épitrochlée, oléc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600200" y="1752480"/>
            <a:ext cx="2738520" cy="3200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181480" y="1752480"/>
            <a:ext cx="2705400" cy="3200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1447920" y="5181480"/>
            <a:ext cx="3047760" cy="459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ignés en ex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48320" y="5181480"/>
            <a:ext cx="3733560" cy="459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iangle isocèle en flex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uxation du cou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é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te de contact total et permanent des surfaces articul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Luxation postéro-exter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2514240"/>
            <a:ext cx="4419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Forme la plus fréqu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raumatisme indirect avant-bras en extension-valg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800600" y="2133720"/>
            <a:ext cx="3886200" cy="2916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n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éformation, oedè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aillie de l'olécrane en arri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alpation de la cupule radiale en exter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aillie de la trochlée en av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ttitude en flexion-pro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m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ésions associ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653000" y="2638440"/>
            <a:ext cx="4033800" cy="2446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verture cutanée (luxation exposé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ications neurologiques (nerf ulnaire = 5 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ications vascul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drome des lo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943600" y="4230720"/>
            <a:ext cx="2743200" cy="2271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yndrome des lo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e aponévrotique inexten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gmentation volume du cont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/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minution volume du conten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895480" y="3962520"/>
            <a:ext cx="312444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chémie capill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705720" y="5105520"/>
            <a:ext cx="167616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ed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24080" y="6172200"/>
            <a:ext cx="251460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5181480"/>
            <a:ext cx="213336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352680" y="5181480"/>
            <a:ext cx="2133720" cy="459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rcle vicie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"/>
          <p:cNvCxnSpPr>
            <a:stCxn id="79" idx="0"/>
            <a:endCxn id="76" idx="1"/>
          </p:cNvCxnSpPr>
          <p:nvPr/>
        </p:nvCxnSpPr>
        <p:spPr>
          <a:xfrm flipH="1" flipV="1" rot="5400000">
            <a:off x="1640160" y="3926160"/>
            <a:ext cx="986400" cy="1524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6" idx="3"/>
            <a:endCxn id="77" idx="0"/>
          </p:cNvCxnSpPr>
          <p:nvPr/>
        </p:nvCxnSpPr>
        <p:spPr>
          <a:xfrm>
            <a:off x="6019560" y="4195440"/>
            <a:ext cx="1524600" cy="91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77" idx="2"/>
            <a:endCxn id="78" idx="3"/>
          </p:cNvCxnSpPr>
          <p:nvPr/>
        </p:nvCxnSpPr>
        <p:spPr>
          <a:xfrm rot="5400000">
            <a:off x="6174000" y="5036040"/>
            <a:ext cx="834120" cy="1905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" name=""/>
          <p:cNvCxnSpPr>
            <a:stCxn id="78" idx="1"/>
            <a:endCxn id="79" idx="2"/>
          </p:cNvCxnSpPr>
          <p:nvPr/>
        </p:nvCxnSpPr>
        <p:spPr>
          <a:xfrm rot="10800000">
            <a:off x="1370880" y="5647680"/>
            <a:ext cx="1753200" cy="757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" name=""/>
          <p:cNvSpPr/>
          <p:nvPr/>
        </p:nvSpPr>
        <p:spPr>
          <a:xfrm>
            <a:off x="6629400" y="1219320"/>
            <a:ext cx="2209680" cy="28598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ul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nsion muscul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ure des 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0T19:55:25Z</dcterms:created>
  <dc:creator>Laure</dc:creator>
  <dc:description/>
  <dc:language>en-US</dc:language>
  <cp:lastModifiedBy>Laure</cp:lastModifiedBy>
  <dcterms:modified xsi:type="dcterms:W3CDTF">2008-04-10T19:57:11Z</dcterms:modified>
  <cp:revision>2</cp:revision>
  <dc:subject/>
  <dc:title>Luxation du coude</dc:title>
</cp:coreProperties>
</file>