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A13-0897-4B0C-98C3-29682CCD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672-8B2F-4E95-8494-CEEA3005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D21-9279-4882-B25B-7D6FF350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6D2-51A6-4A33-B32A-00E3879E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42F-3D18-448D-AF61-1CB6D867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853-D64C-4539-ADC3-36728288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BDC-DA0D-4EF1-B7C5-5E07FE26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C48-67C6-47C5-B5B4-B113A430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C1D-0032-414D-9CD4-EE7B1CEB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D40-0F79-4078-B4C9-F506A6E2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AB69-C54F-46D3-8769-1F3E49B4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2E2-4EAB-4A80-8A27-C0DD41AF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96BB-64FA-48B2-AA3E-A27E4B8CF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2286000"/>
            <a:ext cx="6705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émiologie du bras et du co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r Frédéric DESMOUL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CA service du Pr SE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pital LARIBOISI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Ouverture cutanée : classification de Caucho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ade 1 : ouverture punctif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ade 2 : suturable sans 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ade 3 : perte de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age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1981080"/>
            <a:ext cx="3422880" cy="457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graphie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incidences orthog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émiologie rad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s, co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Hauteur du trai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épiphyse, métaphyse, diaph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ype de trai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transversal, oblique, spiro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de, 3</a:t>
            </a:r>
            <a:r>
              <a:rPr b="0" lang="fr-FR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m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ment, comminu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éplacemen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 angulation (valgus, varus, flessum, recurvatum), rotation, translation,chevauch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émiologie rad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09600" y="1600200"/>
            <a:ext cx="6724800" cy="4525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447920" y="3733920"/>
            <a:ext cx="533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38098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3809880"/>
            <a:ext cx="6858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3886200"/>
            <a:ext cx="685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émiologie rad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057400"/>
            <a:ext cx="761760" cy="1981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114800"/>
            <a:ext cx="762120" cy="198108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2057400"/>
            <a:ext cx="762120" cy="1981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2057400"/>
            <a:ext cx="761760" cy="1981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2057400"/>
            <a:ext cx="762120" cy="1981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4191120"/>
            <a:ext cx="762120" cy="198108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3352680"/>
            <a:ext cx="762120" cy="19814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362200">
            <a:off x="7620120" y="4190760"/>
            <a:ext cx="761760" cy="198108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419112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3429000"/>
            <a:ext cx="152280" cy="685800"/>
          </a:xfrm>
          <a:prstGeom prst="upDownArrow">
            <a:avLst>
              <a:gd name="adj1" fmla="val 50000"/>
              <a:gd name="adj2" fmla="val 89654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8267400" y="3771720"/>
            <a:ext cx="304920" cy="533520"/>
          </a:xfrm>
          <a:custGeom>
            <a:avLst/>
            <a:gdLst>
              <a:gd name="textAreaLeft" fmla="*/ 101520 w 304920"/>
              <a:gd name="textAreaRight" fmla="*/ 261360 w 30492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038480"/>
            <a:ext cx="609480" cy="457200"/>
          </a:xfrm>
          <a:custGeom>
            <a:avLst/>
            <a:gdLst>
              <a:gd name="textAreaLeft" fmla="*/ 81360 w 609480"/>
              <a:gd name="textAreaRight" fmla="*/ 528120 w 6094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6172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6172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vauch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6172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143000"/>
            <a:ext cx="7391520" cy="4597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éplacement du fragment distal / fragment prox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u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3932280" cy="5410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38280" y="1447920"/>
            <a:ext cx="4038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6172200"/>
            <a:ext cx="4038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1676520"/>
            <a:ext cx="4572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1828800"/>
            <a:ext cx="4572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1905120"/>
            <a:ext cx="23619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3 articulation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uméro-rad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uméro-ul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-ul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 mouvemen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exion-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no-sup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pports anatomiq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375440" cy="6019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133720" y="990720"/>
            <a:ext cx="4647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6172200"/>
            <a:ext cx="46483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1295280"/>
            <a:ext cx="3808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1828800"/>
            <a:ext cx="2514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rf ul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rf mé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rf ra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tère humé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en neur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f uln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f mé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f rad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en sensitif et mo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rritoires sensi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46400" y="838080"/>
            <a:ext cx="4375080" cy="6019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09680" y="838080"/>
            <a:ext cx="4496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6019920"/>
            <a:ext cx="44956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1295280"/>
            <a:ext cx="3049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racture diaphysaire de l’humé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amen clinique normal du co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ation du co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racture de la 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ête rad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cture de l’oléc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cture supra-condylienne de l’enf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icondylal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acture de la diaphyse humé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8120" y="1066680"/>
            <a:ext cx="3209760" cy="556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066680" y="1066680"/>
            <a:ext cx="2057400" cy="337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iphyse proxi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676520"/>
            <a:ext cx="2057400" cy="5806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physe proxi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6172200"/>
            <a:ext cx="2057400" cy="337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iphyse dis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5334120"/>
            <a:ext cx="2057400" cy="337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physe dis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2133720"/>
            <a:ext cx="76320" cy="3124080"/>
          </a:xfrm>
          <a:custGeom>
            <a:avLst/>
            <a:gdLst>
              <a:gd name="textAreaLeft" fmla="*/ 48960 w 76320"/>
              <a:gd name="textAreaRight" fmla="*/ 76320 w 7632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581280"/>
            <a:ext cx="2057400" cy="337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aphy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2057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/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3505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4800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 rot="8693400">
            <a:off x="5247000" y="2107080"/>
            <a:ext cx="541080" cy="3047760"/>
          </a:xfrm>
          <a:custGeom>
            <a:avLst/>
            <a:gdLst>
              <a:gd name="textAreaLeft" fmla="*/ 72360 w 541080"/>
              <a:gd name="textAreaRight" fmla="*/ 468720 w 541080"/>
              <a:gd name="textAreaTop" fmla="*/ 533520 h 3047760"/>
              <a:gd name="textAreaBottom" fmla="*/ 221004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4191120"/>
            <a:ext cx="1600200" cy="337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rf rad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4190760" cy="5410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09680" y="1295280"/>
            <a:ext cx="5335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1295280"/>
            <a:ext cx="53316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1447920"/>
            <a:ext cx="3962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6095880"/>
            <a:ext cx="39621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2895480"/>
            <a:ext cx="2133360" cy="459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rf ra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105160" y="31240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opath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umatisme di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umatisme indirect : chute sur la main,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72200" y="2514600"/>
            <a:ext cx="2333520" cy="3139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ain : age, membre dominant, activité, ATC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itude des traumatisés du memb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tence fonctionnelle to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ésions assoc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2486160" cy="342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logiques : nerf radial +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a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4114800"/>
            <a:ext cx="1066680" cy="8254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rf ra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7391520" y="4038480"/>
            <a:ext cx="3808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Testing du nerf rad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819520" cy="2408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2819520" cy="2424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nsit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ensibilité de la face dorsale de la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i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te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xtension du poignet et des doig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9:45:38Z</dcterms:created>
  <dc:creator>Laure</dc:creator>
  <dc:description/>
  <dc:language>en-US</dc:language>
  <cp:lastModifiedBy>Laure</cp:lastModifiedBy>
  <dcterms:modified xsi:type="dcterms:W3CDTF">2008-04-10T19:51:02Z</dcterms:modified>
  <cp:revision>2</cp:revision>
  <dc:subject/>
  <dc:title>Diapositive 1</dc:title>
</cp:coreProperties>
</file>