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17.jpeg" ContentType="image/jpeg"/>
  <Override PartName="/ppt/media/image8.gif" ContentType="image/gi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54E-DF6C-4E2C-BA0C-2E6E7CAB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378-532B-4237-8346-06215ABB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232-9A64-4101-B6B9-FBA25188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F27-8B90-49FF-9B0F-5CD98970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A8B-21CC-493D-81A3-B390E5F5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E5C-1ADC-42C5-9947-80E28B79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2BE-579A-410D-A797-3354A8F8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CDA-C5CC-47B0-9263-3D61DDCA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9EA-D2B5-4F61-82F7-41A4B87D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B8F-97C2-4B2B-9C11-6B3AFABE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DDA-7693-46C9-9059-7B477B34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080-FFD8-46C8-8E4C-803416A0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E3A0-9544-4D04-A3FD-2B1CB1D73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3809880" cy="2667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ête radiale participe à l’articulation huméro-radiale et à la radio-ulnaire pro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53000" y="2487600"/>
            <a:ext cx="4033800" cy="274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952880" y="5638680"/>
            <a:ext cx="12193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vé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4952880"/>
            <a:ext cx="18288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-ul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133720"/>
            <a:ext cx="18288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méro-rad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5410080"/>
            <a:ext cx="18288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 du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419720" y="42667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638680" y="4190760"/>
            <a:ext cx="14479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7543440" y="411480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105160" y="251460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active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graphie face et pro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posi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différ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sions associ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284800" y="1600200"/>
            <a:ext cx="276876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4100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ications - lésion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uxation trans-olécrani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uxation de la tête radiale : fracture de Monteggia ha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cture tête rad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cture coronoï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verture cuta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ésion vascu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ésion neurol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sion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06800" y="1600200"/>
            <a:ext cx="4479840" cy="268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63600" y="3025800"/>
            <a:ext cx="3873600" cy="3022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2921040" cy="419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116520" cy="419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Fractures supra-condyliennes de l’en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opath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umatisme b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umatisme indirect : chute sur la paume de la main, fracture en extension (95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umatisme direct : rare, fracture en flexion (5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rrain : garçon 5-8 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0 % des fra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Œdème, ecchym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tat cut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neur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isation dis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ications préc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ché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ésions neurolo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ndrome des loges (Volkma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verture cutan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191120" cy="3643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graphie face et pro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posi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différ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opath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canisme le plus souvent in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te sur la paume de la 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et cisaillement entre la diaphyse radiale et l’épiphyse humé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ification : Lagrange et Rigaul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ade 1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fracture non déplacée, fracture isolée de la corticale antérie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ade 2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faible déplacement dans le plan sagittal, le périoste postérieur est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ade 3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déplacement important dans le plan frontal et sagittal, avec persistance d’un contact entre les 2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ade 4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perte du contact entre les 2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Epicondylal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yo-tendino-périostite intéressant les extenseurs du carpe à leur insertion proxi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rrain : homme 35-50 ans, microtraumatismes professionnels ou sportifs (tennis elb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uleur sur l’épicondyle irradiant au bord latéral de l’avant 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tension contrariée du poignet doulou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gra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ogra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ur en savoir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ttp://idisk.mac.com/rs.nizard-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770960" cy="259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rrain, mécan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tence fonctionnelle modé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uleur latérale, déclenchée à la palpation de la tête ra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formation modérée, œdème, ecchy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lexion extension possible mais prono-supination doulou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lications, lésions assoc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423880" cy="2590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242892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ag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hés radiographiques de face et de 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positif, diagnostique différentiel, lésions assoc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hés du poi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249800" y="1684440"/>
            <a:ext cx="1511280" cy="201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58760" y="1600200"/>
            <a:ext cx="2828880" cy="217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6680" y="1752480"/>
            <a:ext cx="2895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886200"/>
            <a:ext cx="2895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1981080"/>
            <a:ext cx="2286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981080"/>
            <a:ext cx="2286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5400000">
            <a:off x="6117480" y="2112120"/>
            <a:ext cx="18288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Classification de M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39840" y="1600200"/>
            <a:ext cx="666432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sion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ation du co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ation radio-cubitale distale : Essex-Lopr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orse du plan ligamentaire int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cture du capit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ctures de l’oléc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opath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c direct le plus sou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placement par traction du triceps vers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40160" y="1600200"/>
            <a:ext cx="285768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791320" y="24382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47:08Z</dcterms:created>
  <dc:creator>Laure</dc:creator>
  <dc:description/>
  <dc:language>en-US</dc:language>
  <cp:lastModifiedBy>Laure</cp:lastModifiedBy>
  <dcterms:modified xsi:type="dcterms:W3CDTF">2008-04-10T19:47:13Z</dcterms:modified>
  <cp:revision>1</cp:revision>
  <dc:subject/>
  <dc:title>Anatomie</dc:title>
</cp:coreProperties>
</file>