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71440" y="1549440"/>
            <a:ext cx="86868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TESTS GÉNÉTIQU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odule Optionnel de Génétique Médica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ours du 11 février 2008 (3 séries de diap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érie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0" y="5257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éfé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rs de génétique médicale du Collège des Enseignants de génét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0" y="926640"/>
            <a:ext cx="8940960" cy="593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Affirmer ou confirmer le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diagnostic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d’une maladie génétique suspectée chez un 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sujet malade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(ex d’un patient atteint de la chorée de Huntingt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méliorer le 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conseil génétique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/ préciser la probabilité d’être atteint pour un enfant à naitre  et permettre la realisation d’un 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diagnostic anténatal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(ex de l’amyotrophie spinale infantile ou de la mucoviscidos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ire si une 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personne asymptomatique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à risque pour la maladie peut ou non la développer (ex d’un apparenté d’un patient atteint d’une très rare forme autosomique dominante d’Alzheimer) / Encore faut il que l’on ait identifié l’anomalie chez un sujet atteint de la fami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Encadrement juridique des tests génétiqu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102680" y="130320"/>
            <a:ext cx="678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Objectifs des tests génétiqu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1244160"/>
            <a:ext cx="8940960" cy="551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00"/>
                </a:solidFill>
                <a:latin typeface="Arial"/>
              </a:rPr>
              <a:t>Savoir prescrire le bon test ++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00"/>
                </a:solidFill>
                <a:latin typeface="Arial"/>
              </a:rPr>
              <a:t>Savoir interpréter les résultats du test ++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ffff00"/>
                </a:solidFill>
                <a:latin typeface="Arial"/>
              </a:rPr>
              <a:t>Caryotype et anomalies chromosomiques</a:t>
            </a: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 (limite du caryotype haute résolution) / On ne recherche pas une mutation ponctuelle avec un caryotype!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ffff00"/>
                </a:solidFill>
                <a:latin typeface="Arial"/>
              </a:rPr>
              <a:t>Tests moléculaires</a:t>
            </a: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 de nature très diverse selon ce que l’on sait de l’anomalie moléculaire en cause (séquençage du gène, recherche de délétion, test génotypique indirect …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Sensibilité et spécificité des tes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Pouvoir prédictif d’un test / Le plus souvent élevé dans les maladies monogéniques / très limité dans les maladies multifactoriell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96960" y="384120"/>
            <a:ext cx="627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Nature des tests génétiqu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5120" y="139680"/>
            <a:ext cx="88725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afd00"/>
                </a:solidFill>
                <a:latin typeface="Arial"/>
              </a:rPr>
              <a:t>Maladie de Huntington: Bases moléculaires</a:t>
            </a:r>
            <a:r>
              <a:rPr b="0" lang="fr-FR" sz="4800" spc="-1" strike="noStrike">
                <a:solidFill>
                  <a:srgbClr val="fafd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03320"/>
            <a:ext cx="9067680" cy="28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buClr>
                <a:srgbClr val="ffffff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Maladie autosomique dominan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buClr>
                <a:srgbClr val="ffffff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buClr>
                <a:srgbClr val="ffffff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Gène codant pour la huntingtine, situé sur le chromosome 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buClr>
                <a:srgbClr val="ffffff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buClr>
                <a:srgbClr val="ffffff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Expansion d’un trinucléotide instable CAG dans le premier exon de ce gèn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buClr>
                <a:srgbClr val="ffffff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buClr>
                <a:srgbClr val="ffffff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Allèles normaux: 6 à 35 répétitions CA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buClr>
                <a:srgbClr val="ffffff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buClr>
                <a:srgbClr val="ffffff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Allèles pathologiques: 36 à 180 répétitions CA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663200" y="3776760"/>
            <a:ext cx="1126080" cy="3029760"/>
            <a:chOff x="1663200" y="3776760"/>
            <a:chExt cx="1126080" cy="3029760"/>
          </a:xfrm>
        </p:grpSpPr>
        <p:graphicFrame>
          <p:nvGraphicFramePr>
            <p:cNvPr id="47" name=""/>
            <p:cNvGraphicFramePr/>
            <p:nvPr/>
          </p:nvGraphicFramePr>
          <p:xfrm>
            <a:off x="1823760" y="3776760"/>
            <a:ext cx="965520" cy="2653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3760" y="3776760"/>
                      <a:ext cx="965520" cy="265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" name=""/>
            <p:cNvSpPr/>
            <p:nvPr/>
          </p:nvSpPr>
          <p:spPr>
            <a:xfrm>
              <a:off x="1992240" y="6437520"/>
              <a:ext cx="23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252520" y="6437520"/>
              <a:ext cx="23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12440" y="6438240"/>
              <a:ext cx="23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5400000">
              <a:off x="1657440" y="6190560"/>
              <a:ext cx="122400" cy="111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5400000">
              <a:off x="1657440" y="5578560"/>
              <a:ext cx="122400" cy="111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1657440" y="4026960"/>
              <a:ext cx="122400" cy="111240"/>
            </a:xfrm>
            <a:prstGeom prst="triangle">
              <a:avLst>
                <a:gd name="adj" fmla="val 50000"/>
              </a:avLst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80640" y="3814920"/>
            <a:ext cx="14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&gt; 36 CA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athologi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8840" y="545148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8840" y="610092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74840" y="4113360"/>
            <a:ext cx="5702400" cy="20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ffff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Mesure du nombre de CAG: si &gt; 36 CAG / pathologiqu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Très bonne sensibilité et spécificité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Valeur prédictive forte car pénétrance complè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380880"/>
            <a:ext cx="914400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afd00"/>
                </a:solidFill>
                <a:latin typeface="Arial"/>
              </a:rPr>
              <a:t>Tests génétiques et chorée de Huntington</a:t>
            </a:r>
            <a:r>
              <a:rPr b="0" lang="fr-FR" sz="4800" spc="-1" strike="noStrike">
                <a:solidFill>
                  <a:srgbClr val="fafd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3040" y="1752480"/>
            <a:ext cx="8669520" cy="44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ermet de 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confirmer le  diagnostic chez un sujet mal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iagnostic présymptomatique : PRUDENCE +++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iagnostic anténatal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>
              <a:lnSpc>
                <a:spcPct val="90000"/>
              </a:lnSpc>
              <a:buClr>
                <a:srgbClr val="ffffff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 problème posé par les maladies graves mais à début tardi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71680">
              <a:lnSpc>
                <a:spcPct val="90000"/>
              </a:lnSpc>
              <a:buClr>
                <a:srgbClr val="ffffff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 problème du parent à risque encore asymptomatique qui ne souhaite pas connaître son stat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ossibilité de diagnostic préimplantatoi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28600"/>
            <a:ext cx="91440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afd00"/>
                </a:solidFill>
                <a:latin typeface="Arial"/>
              </a:rPr>
              <a:t>Huntington et diagnostic présymptomatique</a:t>
            </a:r>
            <a:r>
              <a:rPr b="0" lang="fr-FR" sz="4800" spc="-1" strike="noStrike">
                <a:solidFill>
                  <a:srgbClr val="fafd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3040" y="1511280"/>
            <a:ext cx="8669520" cy="48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ffff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fafd00"/>
                </a:solidFill>
                <a:latin typeface="Arial"/>
              </a:rPr>
              <a:t>PRUDENCE +++++ DROIT DE NE PAS SAVOIR ++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Sujet </a:t>
            </a:r>
            <a:r>
              <a:rPr b="1" lang="fr-FR" sz="2200" spc="-1" strike="noStrike" u="sng">
                <a:solidFill>
                  <a:srgbClr val="ffff00"/>
                </a:solidFill>
                <a:uFillTx/>
                <a:latin typeface="Arial"/>
              </a:rPr>
              <a:t>adulte</a:t>
            </a: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, à risque, cliniquement indemne, souhaitant connaître son statu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En l’absence de thérapeutique, à ne pratiquer que chez des sujets dont les motivations ont été bien élaborées, dans le cadre d’une </a:t>
            </a:r>
            <a:r>
              <a:rPr b="1" lang="fr-FR" sz="2200" spc="-1" strike="noStrike">
                <a:solidFill>
                  <a:srgbClr val="ffff00"/>
                </a:solidFill>
                <a:latin typeface="Arial"/>
              </a:rPr>
              <a:t>consultation multidisciplinaire</a:t>
            </a: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, au cours d’une procédure se déroulant sur plusieurs moi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fafd00"/>
                </a:solidFill>
                <a:latin typeface="Arial"/>
              </a:rPr>
              <a:t>Aucun bénéfice chez un mineur</a:t>
            </a: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Time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Faible demande (15 % des sujets à risque) / La moitié des sujets faisant la démarche en vue d’un test ne va pas jusqu’à la prise de sang +++ Risque de réaction catastrophique lors de communication du résultat chez porteurs ET non porteurs / Necessité d’un suivi après résultats +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03040" y="1612800"/>
            <a:ext cx="8737920" cy="500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Risque à priori d’être hétérozygote pour un sujet sain dont un apparenté est attei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Risque  a priori d’avoir un enfant atteint pour un sujet sain dont un apparenté est atteint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Intérêt des tests moléculaires pour préciser ce risque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Si l’apparenté et le conjoint sont porteurs de la délétion hétérozygote: risque de 1/4 / Proposer diagnostic prénatal à 11 semaines d’aménorrhé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Si l’apparenté est hétérozygote pour la délétion et le conjoint non porteur ou bien si les 2 sont non porteurs: Rassurer ++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3040" y="138240"/>
            <a:ext cx="894096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Détection des hétérozygotes et diagnostic prénatal: 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</a:t>
            </a:r>
            <a:r>
              <a:rPr b="1" lang="fr-FR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fr-FR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Maladies autosomiques recessive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</a:t>
            </a:r>
            <a:r>
              <a:rPr b="1" lang="fr-FR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fr-FR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</a:t>
            </a:r>
            <a:r>
              <a:rPr b="1" lang="fr-FR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Exemples de la SMA ou de la mucovicidos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03040" y="2412720"/>
            <a:ext cx="8737920" cy="208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aladie récessive liée à l’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mportance de la détection des mères hétérozygotes qui sont non atteintes mais conductric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3040" y="138240"/>
            <a:ext cx="894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Détection des hétérozygotes et diagnostic prénatal: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Exemples  de la myopathie de Duchen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7T16:51:52Z</dcterms:created>
  <dc:creator>PowerMacintosh User</dc:creator>
  <dc:description/>
  <dc:language>en-US</dc:language>
  <cp:lastModifiedBy>Elisabeth Tournier-Lasserve</cp:lastModifiedBy>
  <cp:lastPrinted>2000-07-03T16:36:05Z</cp:lastPrinted>
  <dcterms:modified xsi:type="dcterms:W3CDTF">2008-02-09T13:58:47Z</dcterms:modified>
  <cp:revision>243</cp:revision>
  <dc:subject/>
  <dc:title>CARACTERISATION DES MUTATIONS DU GENE CACNL1A4 DANS UN PANEL DE FAMILLES DE MIGRAINE HEMIPLEGIQUE FAMILIALE (MHF) ET D’ATAXIE PAROXYSTIQUE SENSIBLE A L’ACETAZOLAMIDE (HPCA)</dc:title>
</cp:coreProperties>
</file>